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CE98-42A3-4C7B-9D42-66A11BB1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7D1A-22BE-4114-8FB8-32B65E37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FA19-1A2A-4682-9574-71C437A8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1E6D-74D8-4861-966D-B5039668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F2A8E-A617-40AF-9943-23AEA1B5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48CAC-72A3-4F4E-9C1C-8F3A3642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FD70A-C5D6-415D-9EF3-A67E9409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7C379-B97A-41A8-B93D-3DDA74D8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DD4E3-F5BC-467D-A2C1-51DBC467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CE8DC-2D1B-48F0-AD7D-424A30F7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6650C-EC34-4B9D-A680-02BE61F2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A33A-67DE-48DE-8D1C-1083640B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C8381-8FE4-4574-B540-7A85020F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41A66-0E49-4B38-A162-4EC17F73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B1D25-F40E-41DC-929C-366B315A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CB993-A006-439D-BDE9-2B4C32B8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45472-C745-4BD2-A9E4-9B58A98C8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D5BA-2BA7-44E6-9F8F-0FD12A25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DC2F-BE14-4EB7-9242-EC4623C7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27CC-3B3F-4C7D-A0DC-AE29D47E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0B02-04C2-4ED3-997A-3EAD5E11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001A-66FB-4A89-A53C-01391CA1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359A-E060-4F2D-9353-A0AD7DF0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D220-0CEA-4D8F-A468-B0B78F75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1B72-BE9B-40C5-A3CF-2C4E5F8EFD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D397-1731-4D1B-BC5B-531997D77E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«Всероссийский конкурс 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280" y="2637000"/>
            <a:ext cx="79311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БОУ «СОШ №16  имени  Д.М.Карбышев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усак Галина Александ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353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лгорит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4360" y="1916280"/>
          <a:ext cx="7775280" cy="1657080"/>
        </p:xfrm>
        <a:graphic>
          <a:graphicData uri="http://schemas.openxmlformats.org/drawingml/2006/table">
            <a:tbl>
              <a:tblPr/>
              <a:tblGrid>
                <a:gridCol w="7775280"/>
              </a:tblGrid>
              <a:tr h="16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Заменю крупные единицы мелки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Выполню действ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Заменю мелкие единицы крупны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6092640"/>
            <a:ext cx="842652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хакасское женское платье (инче когенег) надо 7м ткани. Сколько метров ткани пойдёт на одну мужскую рубашку (ир когенег), если на неё требуется на 2 метра меньше, чем на плать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9" descr="Image1"/>
          <p:cNvPicPr/>
          <p:nvPr/>
        </p:nvPicPr>
        <p:blipFill>
          <a:blip r:embed="rId1"/>
          <a:stretch/>
        </p:blipFill>
        <p:spPr>
          <a:xfrm>
            <a:off x="2916360" y="333360"/>
            <a:ext cx="3240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58050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фондах музея хранится 34 платья. Из них 20 платьев для повседневной носки, а остальные концертные. Сколько концертных платьев хранится в музее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Image12"/>
          <p:cNvPicPr/>
          <p:nvPr/>
        </p:nvPicPr>
        <p:blipFill>
          <a:blip r:embed="rId1"/>
          <a:stretch/>
        </p:blipFill>
        <p:spPr>
          <a:xfrm>
            <a:off x="611280" y="260280"/>
            <a:ext cx="784836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5280" y="4292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Хакасы кустарным способом изготавливали различные сорта кожи и меха. Праздничная одежда шилась из шёлковых тканей (торгы), бархата (килин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Эти товары привозились в Хакасию купцами из Китая, Средней Азии и Росс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Так как мы живём на хакасской земле, с хакасским народом, знать национальную одежду коренного населения, интересно и необходим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У каждого народа есть свои национальные особенности, обычаи, язык, культура и быт. В настоящее время с образованием Республики Хакасия национальные традиции, одежда возрождаются. На многих праздниках, таких как «Тун пайрам», «Чыл пазы», на свадьбах, в театре можно видеть женщин в национальных платья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Image14"/>
          <p:cNvPicPr/>
          <p:nvPr/>
        </p:nvPicPr>
        <p:blipFill>
          <a:blip r:embed="rId1"/>
          <a:stretch/>
        </p:blipFill>
        <p:spPr>
          <a:xfrm>
            <a:off x="684360" y="189000"/>
            <a:ext cx="77770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580500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ина музыкального инструмента чатхан 150см, а ширина 25см. Найди сумму длин всех его сторон и площадь. (рядом с чатханом тимерхомы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DSC04760"/>
          <p:cNvPicPr/>
          <p:nvPr/>
        </p:nvPicPr>
        <p:blipFill>
          <a:blip r:embed="rId1"/>
          <a:stretch/>
        </p:blipFill>
        <p:spPr>
          <a:xfrm>
            <a:off x="1042920" y="260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39640" y="5949720"/>
            <a:ext cx="8064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должительность спектакля Хакасского музыкально-драматического театра Читиген «В чаще» - 1ч 20мин., а продолжительность детской сказки «Охотник Сарынчах» - 50мин. На сколько сказка короче спектакля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Image53"/>
          <p:cNvPicPr/>
          <p:nvPr/>
        </p:nvPicPr>
        <p:blipFill>
          <a:blip r:embed="rId1"/>
          <a:stretch/>
        </p:blipFill>
        <p:spPr>
          <a:xfrm>
            <a:off x="755640" y="189000"/>
            <a:ext cx="756144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616536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тупление театра Читиген в школе №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DSC04751"/>
          <p:cNvPicPr/>
          <p:nvPr/>
        </p:nvPicPr>
        <p:blipFill>
          <a:blip r:embed="rId1"/>
          <a:stretch/>
        </p:blipFill>
        <p:spPr>
          <a:xfrm>
            <a:off x="826920" y="189000"/>
            <a:ext cx="7560000" cy="5668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4000" y="6092640"/>
            <a:ext cx="7777080" cy="5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ращаясь к народным истокам культуры мы будем стремиться возродить гордость народа, будем помогать искать ему своё место в сегодняшнем дн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DSC04745"/>
          <p:cNvPicPr/>
          <p:nvPr/>
        </p:nvPicPr>
        <p:blipFill>
          <a:blip r:embed="rId1"/>
          <a:stretch/>
        </p:blipFill>
        <p:spPr>
          <a:xfrm>
            <a:off x="900000" y="26028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360" y="566100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а, надежда, доброта, челове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900000" y="404640"/>
            <a:ext cx="7417080" cy="45370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   А    Т   Е     Д     К    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      Е         О      О       А     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       Ч    Р    Н   Д    Е     Д      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      Б         А        Р       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ма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а: «Действия 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енованными числам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использование НРК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 Изучение именованных чисел, обобщив знания, полученные на более ранних этапах обучения, используя РНК; анализ различных способов выполнения действий с именованными числами и использование этих способов в практической деятельности; выбор рациональных способов выполнения действий и обоснование такого выбора. Различные способы запис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Знакомство учеников со старинными измерительными прибор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Воспитание положительного отношения к учёбе. Осознание своих действий и их применение в реальной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Воспитание любви к своей малой Родине, потребности к изучению хакасской культур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7778880" cy="47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2км 178м </a:t>
            </a: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/высота горы Верхний зуб на Западе Хакасии/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300мм     </a:t>
            </a: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 /годовое количество осадков в степной части Хакасии/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15мм      </a:t>
            </a: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/самый крупный муравей Хакасии - «Древоточец чёрный»/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3мм          </a:t>
            </a: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/самый маленький муравей – «фараонов»/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220см     </a:t>
            </a: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 /длина овчинного хакасского одеяла – «чорген»/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22м2        </a:t>
            </a: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/площадь шестиугольной хакасской юрты/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150см     </a:t>
            </a: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/длина музыкального инструмента – «чатхан»/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6кг        </a:t>
            </a: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 /масса тетерева/</a:t>
            </a: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эти птицы живут в лесах Хакасии</a:t>
            </a:r>
            <a:br>
              <a:rPr sz="1600"/>
            </a:b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1кг        </a:t>
            </a: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      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/масса рябчика/</a:t>
            </a:r>
            <a:endParaRPr b="0" lang="en-US" sz="1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284720" y="4653000"/>
            <a:ext cx="142920" cy="720720"/>
          </a:xfrm>
          <a:custGeom>
            <a:avLst/>
            <a:gdLst>
              <a:gd name="textAreaLeft" fmla="*/ 0 w 142920"/>
              <a:gd name="textAreaRight" fmla="*/ 51480 w 14292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  6кг     150см     300мм     2км 178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кг     220см     15мм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(две единицы измере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2кв.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в записи использова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у единицу измере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)   6кг                   150см                     22кв.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кг                    300мм 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единицы измерения площади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диницы измерения массы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2км 178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20с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5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мм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единицы измерения длины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кг = 6000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кг = 1000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50см = 1500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20см = 2200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км 178м = 2178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2кв.м =  2200кв.д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136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км 178м + 1км 233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м 9дм Зсм - 1м 4дм 78с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5р 26к • 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кг 200г : 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3:32:24Z</dcterms:created>
  <dc:creator>WOLVERINE</dc:creator>
  <dc:description/>
  <dc:language>en-US</dc:language>
  <cp:lastModifiedBy>Галина</cp:lastModifiedBy>
  <dcterms:modified xsi:type="dcterms:W3CDTF">2021-12-26T12:02:44Z</dcterms:modified>
  <cp:revision>12</cp:revision>
  <dc:subject/>
  <dc:title>2км 178м             /высота горы Верхний зуб на Западе Хакасии/          300мм                 /годовое количество осадков в степной части Хакасии/         15мм                   /самый крупный муравей Хакасии - «Древоточец чёрный»/         3мм                     /самый маленький муравей – «фараонов»/         220см                  /длина овчинного хакасского одеяла – «чорген»/         22м2                    /площадь шестиугольной хакасской юрты/         150см                  /длина музыкального инструмента – «чатхан»/         6кг                      /масса тетерева/                                                                                              эти птицы живут в лесах Хакасии                          1кг                       /масса рябчика/</dc:title>
</cp:coreProperties>
</file>